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460C-4CF1-4D18-B857-CB8B16532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8758-0048-4CB9-9CA9-5266D6C5C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F13-7D49-4ACD-BE5A-6FB80646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E0B-A53A-4A6F-A4BF-F9BE9FB6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FC0-4E12-4E1D-9909-3A79940D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58D0-FBA4-4521-9CB4-FE060A8A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7C0-8BBA-4787-8D9D-BC490910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BAFE-7CA3-44F9-8283-314F8B2B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8F8-E383-4CB4-BB71-00632B44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AC8-DBB5-4285-9AA2-3B0BA783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FB2-0CDB-4467-8D9D-DD320D93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182-D231-4E8A-B8E5-326F48F5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2BC-7F7D-48EC-9FA4-C4C8519F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F40-DBDE-48E1-B7DB-DB0BE022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84F3-B6F8-4B91-B8C0-BE730824A984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5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24.xml"/><Relationship Id="rId11" Type="http://schemas.openxmlformats.org/officeDocument/2006/relationships/slide" Target="slide34.xml"/><Relationship Id="rId12" Type="http://schemas.openxmlformats.org/officeDocument/2006/relationships/slide" Target="slide44.xml"/><Relationship Id="rId13" Type="http://schemas.openxmlformats.org/officeDocument/2006/relationships/slide" Target="slide16.xml"/><Relationship Id="rId14" Type="http://schemas.openxmlformats.org/officeDocument/2006/relationships/slide" Target="slide26.xml"/><Relationship Id="rId15" Type="http://schemas.openxmlformats.org/officeDocument/2006/relationships/slide" Target="slide36.xml"/><Relationship Id="rId16" Type="http://schemas.openxmlformats.org/officeDocument/2006/relationships/slide" Target="slide46.xml"/><Relationship Id="rId17" Type="http://schemas.openxmlformats.org/officeDocument/2006/relationships/slide" Target="slide18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8.xml"/><Relationship Id="rId21" Type="http://schemas.openxmlformats.org/officeDocument/2006/relationships/slide" Target="slide38.xml"/><Relationship Id="rId22" Type="http://schemas.openxmlformats.org/officeDocument/2006/relationships/slide" Target="slide48.xml"/><Relationship Id="rId23" Type="http://schemas.openxmlformats.org/officeDocument/2006/relationships/slide" Target="slide30.xml"/><Relationship Id="rId24" Type="http://schemas.openxmlformats.org/officeDocument/2006/relationships/slide" Target="slide40.xml"/><Relationship Id="rId25" Type="http://schemas.openxmlformats.org/officeDocument/2006/relationships/slide" Target="slide50.xml"/><Relationship Id="rId26" Type="http://schemas.openxmlformats.org/officeDocument/2006/relationships/slide" Target="slide32.xml"/><Relationship Id="rId27" Type="http://schemas.openxmlformats.org/officeDocument/2006/relationships/slide" Target="slide42.xml"/><Relationship Id="rId28" Type="http://schemas.openxmlformats.org/officeDocument/2006/relationships/slide" Target="slide52.xml"/><Relationship Id="rId29" Type="http://schemas.openxmlformats.org/officeDocument/2006/relationships/slide" Target=""/><Relationship Id="rId30" Type="http://schemas.openxmlformats.org/officeDocument/2006/relationships/image" Target="../media/image2.png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Lesson 9 Reading Test Review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152388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Name a word using the root </a:t>
            </a:r>
            <a:r>
              <a:rPr b="1" i="1" lang="en-US" sz="4800" spc="-1" strike="noStrike">
                <a:solidFill>
                  <a:srgbClr val="ff9933"/>
                </a:solidFill>
                <a:latin typeface="Times New Roman"/>
              </a:rPr>
              <a:t>rupt</a:t>
            </a: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.  What does the word mean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Erupt; interrupt; rupture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09480" y="14479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a word that contains the root </a:t>
            </a:r>
            <a:r>
              <a:rPr b="1" i="1" lang="en-US" sz="7200" spc="-1" strike="noStrike">
                <a:solidFill>
                  <a:srgbClr val="ff9933"/>
                </a:solidFill>
                <a:latin typeface="Times New Roman"/>
              </a:rPr>
              <a:t>scribe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.  What does this word mea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85800" y="21337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Inscribe; scribble; describe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09480" y="304920"/>
            <a:ext cx="792504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After the father gives the boys orders on pages 6 and 7, you can draw the conclusion that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Father wants to be prepared in case the levee breaks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The boys are irresponsible.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The levee probably won’t break.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>
            <a:hlinkClick r:id="rId1" action="ppaction://hlinksldjump"/>
          </p:cNvPr>
          <p:cNvSpPr/>
          <p:nvPr/>
        </p:nvSpPr>
        <p:spPr>
          <a:xfrm>
            <a:off x="-45720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5800" y="21337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304920"/>
            <a:ext cx="769608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What conclusion can you draw from the second paragraph on page 9?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The flood was not a big deal.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The flood was causing major damage.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The boys were happy to get to see this.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85800" y="21337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b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85800" y="685800"/>
            <a:ext cx="79246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The father (Doc Travers) believes that – 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The flood damage is not that bad.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The boys can’t complete the tasks he ask of them.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The boys will be able to handle the tasks he asks of them.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The town won’t have many injured people.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>
            <a:hlinkClick r:id="rId1" action="ppaction://hlinksldjump"/>
          </p:cNvPr>
          <p:cNvSpPr/>
          <p:nvPr/>
        </p:nvSpPr>
        <p:spPr>
          <a:xfrm>
            <a:off x="0" y="3808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52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. 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33520" y="16002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conclusion can you draw about Doc Traver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>
            <a:hlinkClick r:id="rId1" action="ppaction://hlinksldjump"/>
          </p:cNvPr>
          <p:cNvSpPr/>
          <p:nvPr/>
        </p:nvSpPr>
        <p:spPr>
          <a:xfrm>
            <a:off x="0" y="45720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62120" y="228600"/>
            <a:ext cx="784836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He is a brave man who cares a lot about others and his family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He believes in his sons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He cares about his tow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3520" y="11430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ow do the boys feel after they find the grandma and Moos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roud of themselves; happy to have helped others; worried about the future of their town; relieved that they had saved lives and that their home was safe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175248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ow do good readers infer or predict in a stor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38080" y="7621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Good readers use text details, titles, illustrations, captions, and their own knowledge to figure out what will happen next in a story or to figure out what the author wants you to know, but hasn’t come right out and stated.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85800" y="5335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at details helped you infer that Jimmy was nervous about the rescues of the newborn and his mother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685800" y="304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or Jimmy, saying was a lot easier than doing; though his hands felt clammy; ‘What’ll we do Jess?’”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Freeform 5"/>
          <p:cNvSpPr/>
          <p:nvPr/>
        </p:nvSpPr>
        <p:spPr>
          <a:xfrm>
            <a:off x="8896320" y="4395960"/>
            <a:ext cx="4680" cy="360"/>
          </a:xfrm>
          <a:custGeom>
            <a:avLst/>
            <a:gdLst>
              <a:gd name="textAreaLeft" fmla="*/ 0 w 4680"/>
              <a:gd name="textAreaRight" fmla="*/ 5040 w 46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4592" h="1">
                <a:moveTo>
                  <a:pt x="0" y="0"/>
                </a:moveTo>
                <a:lnTo>
                  <a:pt x="4591" y="0"/>
                </a:lnTo>
                <a:close/>
              </a:path>
            </a:pathLst>
          </a:custGeom>
          <a:solidFill>
            <a:srgbClr val="3333cc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0" name="Freeform 6"/>
          <p:cNvSpPr/>
          <p:nvPr/>
        </p:nvSpPr>
        <p:spPr>
          <a:xfrm>
            <a:off x="9020160" y="4319640"/>
            <a:ext cx="4680" cy="360"/>
          </a:xfrm>
          <a:custGeom>
            <a:avLst/>
            <a:gdLst>
              <a:gd name="textAreaLeft" fmla="*/ 0 w 4680"/>
              <a:gd name="textAreaRight" fmla="*/ 5040 w 46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4593" h="1">
                <a:moveTo>
                  <a:pt x="0" y="0"/>
                </a:moveTo>
                <a:lnTo>
                  <a:pt x="4592" y="0"/>
                </a:lnTo>
                <a:close/>
              </a:path>
            </a:pathLst>
          </a:custGeom>
          <a:solidFill>
            <a:srgbClr val="3333cc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371600" y="1447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What details helped you predict that the boys would probably save the person first, then go back for Moose?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The boys were torn…..Yet as much as they wanted to rescue their dog, they knew they had to investigate the cries for help first.”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4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omp. Skill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6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Gramma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7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Wild Card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60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omp.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trategy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4" name="Picture 61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3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Vocabulary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33520" y="11736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can you predict about Charley and the boys at the end of the stor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762120" y="68580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hey will become friends because the boys saved Charley and his family, and the family will be forever grateful to them. 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33520" y="11736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can you infer about the boys after reading the stor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5800" y="21337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They are brave, young men, who are proud of their rescues.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09480" y="0"/>
            <a:ext cx="7848720" cy="67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What is the best way to combine these sentences?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The kids wore their boots.  It was snowing outside.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Because it was snowing outside, the kids wore their boots?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It was snowing outside, the kids wore their boots.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The kids wore boots, so it was snowing.</a:t>
            </a: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5800" y="304920"/>
            <a:ext cx="78487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What is the best way to combine these sentences?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John watched Star Wars.  It was his favorite movie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John watched Star Wars, and it was his favorite movie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John watched Star Wars, but it was his favorite movie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John watched Star Wars, which was his favorite movie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838080" y="838080"/>
            <a:ext cx="7620120" cy="56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What is the best way to combine these sentences?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Angela is good at gymnastics.  She enters in competitions.  She loses sometimes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Angela is good at gymnastics, but loses when she enters competitions all the time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Angela, who is good at gymnastics, enters in competitions, but sometimes loses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Angela loses competitions sometimes, which she is good at gymnastics.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838080" y="21337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a synonym for the word </a:t>
            </a:r>
            <a:r>
              <a:rPr b="1" lang="en-US" sz="7200" spc="-1" strike="noStrike" u="sng">
                <a:solidFill>
                  <a:srgbClr val="ff9933"/>
                </a:solidFill>
                <a:uFillTx/>
                <a:latin typeface="Times New Roman"/>
              </a:rPr>
              <a:t>critical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380880" y="457200"/>
            <a:ext cx="876312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What is the best way to combine these sentences?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The movie starts in fifteen minutes.  We need to pick up Susan.  We must leave now.  We don’t want to be late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We will be late if we pick up Susan if we leave now, the movie starts in fifteen minutes. 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We better leave now to pick up Susan because the movie starts in fifteen minutes, and we don’t want to be late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The movie starts in fifteen minutes, we will be late because we have to pick up Susan, if we leave now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685800" y="533520"/>
            <a:ext cx="79246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What is the best way to combine these sentences?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Linda usually loses.  She is not a dedicated swimmer.  She does not practice.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Linda does not practice because she is not a dedicated swimmer, so she usually loses.  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Linda usually loses, not a dedicated swimmer, because she doesn’t practice. 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Linda, missing practice, is not dedicated, and is not winning. 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62120" y="457200"/>
            <a:ext cx="77724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Is the following sentence compound or complex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en the children walked out the door, they could now believe their eyes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mplex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0" y="-121932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" y="228600"/>
            <a:ext cx="807732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at can you infer about Jimmy and Jess’s mom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She is a mean woma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She is not a good mother to the boys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buClr>
                <a:srgbClr val="ff9933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She is scared for her boys, but proud of them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762120" y="533520"/>
            <a:ext cx="784836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Is the following sentence compound or complex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e didn’t answer the door, because we knew the salesman was pushy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mpound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vital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62120" y="15238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does the word </a:t>
            </a:r>
            <a:r>
              <a:rPr b="1" lang="en-US" sz="7200" spc="-1" strike="noStrike" u="sng">
                <a:solidFill>
                  <a:srgbClr val="ff9933"/>
                </a:solidFill>
                <a:uFillTx/>
                <a:latin typeface="Times New Roman"/>
              </a:rPr>
              <a:t>realization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mea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udden awarenes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85800" y="685800"/>
            <a:ext cx="77724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at conclusion can you draw about Charley’s father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5800" y="213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He believes in his son and feels that he, with the boys help, is capable of finding his grandmother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hinktheme[1]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2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85800" y="137160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What generalization can you make about the people in Greenville, Mississippi?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85800" y="1600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a synonym for the word </a:t>
            </a:r>
            <a:r>
              <a:rPr b="1" lang="en-US" sz="7200" spc="-1" strike="noStrike" u="sng">
                <a:solidFill>
                  <a:srgbClr val="ff9933"/>
                </a:solidFill>
                <a:uFillTx/>
                <a:latin typeface="Times New Roman"/>
              </a:rPr>
              <a:t>squalling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creaming or yelling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838080" y="380880"/>
            <a:ext cx="746784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Name a word using the root </a:t>
            </a:r>
            <a:r>
              <a:rPr b="1" i="1" lang="en-US" sz="6000" spc="-1" strike="noStrike">
                <a:solidFill>
                  <a:srgbClr val="ff9933"/>
                </a:solidFill>
                <a:latin typeface="Times New Roman"/>
              </a:rPr>
              <a:t>photo</a:t>
            </a: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does the word mean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>
            <a:hlinkClick r:id="rId1" action="ppaction://hlinksldjump"/>
          </p:cNvPr>
          <p:cNvSpPr/>
          <p:nvPr/>
        </p:nvSpPr>
        <p:spPr>
          <a:xfrm>
            <a:off x="-30492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85800" y="21337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Photograph; photography; photosynthesis; etc.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ltrolio</cp:lastModifiedBy>
  <dcterms:modified xsi:type="dcterms:W3CDTF">2012-01-09T21:39:04Z</dcterms:modified>
  <cp:revision>50</cp:revision>
  <dc:subject/>
  <dc:title>No Slide Title</dc:title>
</cp:coreProperties>
</file>